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1E9-33DD-458C-92B4-5AC52BA2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17B-1268-4F60-8160-81C9F8B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07B-7053-4158-9CAF-04F2FC18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10B-9EAF-4134-8458-607161B5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864A-CDC4-46BB-9A40-A9AD0A0D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E6EF-5E86-414C-8EF0-F0E36D8E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B7E-15FA-4038-AF7B-80A58C1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D4D-840C-418D-9088-10111FCD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9E5A-1E2A-4734-8E74-51CCD5C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5B6-A1C5-454E-B7A1-E1DF50D2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CB87-E120-4897-95BA-0EE48F4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0C7-AE15-4F22-ABF8-62E6DD99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4336-02E4-420B-B00C-EDD29ED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E74D-1B50-4F13-B08D-C7426A92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D390-C907-43E8-AEB3-828B0DC9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0927-A2E6-4188-9349-3FF94770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586E-ADF5-4E42-BA39-439F3BB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C30-3477-44F9-8599-E7D09DF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DEF-3C15-44DE-BBC5-0C79513B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E33-4E8A-4FEF-B975-58D9270D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98E-7F9D-4007-9328-FFE5763F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DE2-6FC5-4A02-93EB-BAF69B1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2B0-0B27-46B4-820B-3DF9449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C33-A483-4D19-8179-D9C8935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2098-98C5-4A41-A1F3-AE50FD083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64F-8F8A-4041-8E68-0FF4DAABF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Oedipus at Colonu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Third Play in the Theban Tri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Sopho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006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lonna MT"/>
              </a:rPr>
              <a:t>Seven Against Theb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nd six loyal chieftains attempted to invade the city held by Eteocles, the rebellious br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Each chieftain and Polyneices, with their armies, attacked one of the seven gates to the 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Theban army repulsed the attac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The Final Insul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Eteocles and Polyneices died at each other’s hands during the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, the new head of Thebes, heralded the bravery of Eteocles and provided his corpse the proper rites of bu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He left the body of Polyneices to rot, for the animals and birds to cons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lay </a:t>
            </a:r>
            <a:r>
              <a:rPr b="0" i="1" lang="en-US" sz="2800" spc="-1" strike="noStrike">
                <a:solidFill>
                  <a:srgbClr val="ffffff"/>
                </a:solidFill>
                <a:latin typeface="Colonna MT"/>
              </a:rPr>
              <a:t>Antigone</a:t>
            </a: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 begins, with the two sisters in front of the seven gated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Chronology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Although the third play in Sophocles’ Theban Trilogy, the events occur after the self imposed exile of Oedip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lay begins with Oedipus and his daughter Antigone entering the village of Colon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pair are met by a villager who demands that they leave because the ground is sacred to the Fu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The Avenger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 Furies or Erinyes emerged from the darkest, deepest chasms of cre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y punished anyone who had violated the natural 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Killing a parent is such a vio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7480" y="2286000"/>
            <a:ext cx="2451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Civil W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Ismene arrives rejoicing to see her father and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She brings news of impending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Eteocles, son of Oedipus, refused to relinquish the authority he agreed to hold jointly with his brother as co-tyrant in The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wer was to pass back and forth from Eteocles to Polyneices, his brother, every six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lyneices gathered an army to force Eteocles to stand by the original agre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Prophetic Interes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n old prophecy foretold victory in battle to any city where Oedipus lay bur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 aged pariah became a person of interest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nd Creon together intended to  unfairly influence the horribly disgraced former tyrant, father, and brother-in-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lonna MT"/>
              </a:rPr>
              <a:t>By Any Means Necessar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 attempted to force Oedipus back to Thebes by kidnapping Antigone and holding her in Thebes along with Ismene, already tak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Creon wants to bury Oedipus outside of the city to prevent any undue influ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Theseus, tyrant of nearby Athens and supporter of Oedipus, bollixed the plan and rescued Antig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lonna MT"/>
              </a:rPr>
              <a:t>Polyneices tried something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“</a:t>
            </a: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Forgive me, father”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Polyneices admitted that he, not Antigone, should have remained by his father’s 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But Oedipus was no fool; fate had taught him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 refused to forgive his son. He loathed the sound of his son’s v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Instead, in grave terms, he foretold the deaths of both his sons in a futile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Determin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Returning to Thebes without his father but with his father’s prophetic words, Polyneices vowed nonetheless to battle his br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He wanted to appear as a determined and capable leader to his foll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ntigone stated her undying support for her brother by vowing to care for his remains when the inevitable happe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lonna MT"/>
              </a:rPr>
              <a:t>An Exalted Exi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At an olive grove near Colonus, Oedipus was summoned to the afterlife by the gods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seus, his ally from Athens, witnessed the mystical pa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lonna MT"/>
              </a:rPr>
              <a:t>Theseus ever refused to divulge the details of the e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8:06:21Z</dcterms:created>
  <dc:creator>CHUH</dc:creator>
  <dc:description/>
  <dc:language>en-US</dc:language>
  <cp:lastModifiedBy>CHUH</cp:lastModifiedBy>
  <dcterms:modified xsi:type="dcterms:W3CDTF">2012-02-03T16:35:24Z</dcterms:modified>
  <cp:revision>19</cp:revision>
  <dc:subject/>
  <dc:title>Antigone</dc:title>
</cp:coreProperties>
</file>